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494B-FE14-4A42-B7D0-39C2FBB3C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agu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-15 year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00-250 pou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▄ 100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 ounces                       ▄ 450 pou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15 year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-250 pound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▄ 100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ounces                       ▄ 450 pound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E30-640F-4EE7-B140-67C44248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350-CDAA-44E4-AD79-85B09AA4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632-CBB5-4C65-A354-F35DAE91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D52-4BCD-4CBA-907A-9F78F21D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DA29-84DC-4C30-847B-C4DA06A6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201B-736B-4A14-93F7-5D4393E3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DA4D-B37D-4F8F-B974-C6712027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0706-9604-4319-9108-E0AC8F8D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F009-5B05-4794-997D-621434F9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8F93-E1FD-4158-972B-693B42F3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B495-3E71-42FA-899F-C19E2858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C9F-12EF-42D0-A20C-9AA7D004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D816-B77B-4171-B5B0-732588B4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DCA8-0A4F-4067-AAC0-36FC791B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9742-21B6-46CA-A6DA-A1B56062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10EE-1E71-4EC5-8B05-21606B65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F62D-E828-4B05-BD0A-4A33EAA8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E9E-1B82-48C2-95FC-2C3C4673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077-B05E-4163-B633-76E53F4B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0CF-C680-41DE-8C4A-9E2DC072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92B0-F3B8-42B9-BC68-63AD9B69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81E-C325-49CA-8257-2B8C9545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472-7D9C-45A0-AE58-6ABFF4CF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4A0-286C-4FBF-A480-36890C6A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283A-EF62-4EFE-B1D9-AB7B171C8A4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AB5E-4368-42F3-842B-4366DBE3A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B8F8-1223-4597-8C30-04F304F3A2C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C883-B6BD-48CA-9EA0-41C82EF6E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ffiliates.allposters.com/link/redirect.asp?aid=721525&amp;c=c&amp;search=1570&amp;catupdate=157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quality-jewelry-stores.com/templates/Aqua/img/emeralds.jpg&amp;imgrefurl=http://www.quality-jewelry-stores.com/p-emerald-birthstone-may.html&amp;h=600&amp;w=800&amp;sz=62&amp;hl=en&amp;start=3&amp;um=1&amp;usg=__RnxdI3jmkdjUgdxaJ789XAytbVk=&amp;tbnid=pl8dTz3BPgu52M:&amp;tbnh=107&amp;tbnw=143&amp;prev=/images%3Fq%3Demeralds%26um%3D1%26hl%3Den%26safe%3Dactive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robertvail.ifrance.com/Salto%2520Angel%252001.jpg&amp;imgrefurl=http://gwuniversity.blogspot.com/2006/09/choron-y-canaima-venezuela.html&amp;h=758&amp;w=956&amp;sz=32&amp;hl=en&amp;start=8&amp;um=1&amp;usg=__SAmRukV6kkl4OQMcz2XYjz68nYg=&amp;tbnid=Q8GJqPudm6qrXM:&amp;tbnh=117&amp;tbnw=148&amp;prev=/images%3Fq%3Dsalto%2Bdel%2Bangel%26um%3D1%26hl%3Den%26safe%3Dactive%26sa%3DX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rickrichards.com/ac/AmazonRiver1B.jpg&amp;imgrefurl=http://www.rickrichards.com/ac/ac3dFawcett.html&amp;h=480&amp;w=321&amp;sz=22&amp;hl=en&amp;start=17&amp;um=1&amp;usg=__RKApm1opl9NWB6cq-ld6uikra3A=&amp;tbnid=W7abQ_6dbLFT2M:&amp;tbnh=129&amp;tbnw=86&amp;prev=/images%3Fq%3Damazon%2Briver%26um%3D1%26hl%3Den%26safe%3Dactive%26sa%3D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aps.google.com/maps?hl=en&amp;tab=w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</a:t>
            </a:r>
            <a:br>
              <a:rPr sz="4800"/>
            </a:b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e Continent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Pampas - 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ust below Buenos 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verage temperature is 18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ry season is summer (Dece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mbu is tree like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ombu2"/>
          <p:cNvPicPr/>
          <p:nvPr/>
        </p:nvPicPr>
        <p:blipFill>
          <a:blip r:embed="rId1"/>
          <a:stretch/>
        </p:blipFill>
        <p:spPr>
          <a:xfrm>
            <a:off x="3048120" y="3048120"/>
            <a:ext cx="2562120" cy="156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ampas_gauchos"/>
          <p:cNvPicPr/>
          <p:nvPr/>
        </p:nvPicPr>
        <p:blipFill>
          <a:blip r:embed="rId2"/>
          <a:stretch/>
        </p:blipFill>
        <p:spPr>
          <a:xfrm>
            <a:off x="5867280" y="411480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3ad0b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1" lang="en-US" sz="4800" spc="-1" strike="noStrike">
                <a:solidFill>
                  <a:srgbClr val="007000"/>
                </a:solidFill>
                <a:latin typeface="Times New Roman"/>
              </a:rPr>
              <a:t>c</a:t>
            </a:r>
            <a:r>
              <a:rPr b="1" lang="en-US" sz="4800" spc="-1" strike="noStrike">
                <a:solidFill>
                  <a:srgbClr val="0b7cc0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ccff33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9999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 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3200" y="15238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ther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ddle East coast of 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ur distinct 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all ▼             Winter ▼      Summer 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ictemperate"/>
          <p:cNvPicPr/>
          <p:nvPr/>
        </p:nvPicPr>
        <p:blipFill>
          <a:blip r:embed="rId1"/>
          <a:stretch/>
        </p:blipFill>
        <p:spPr>
          <a:xfrm>
            <a:off x="2514600" y="3733920"/>
            <a:ext cx="1905120" cy="143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forest_winter"/>
          <p:cNvPicPr/>
          <p:nvPr/>
        </p:nvPicPr>
        <p:blipFill>
          <a:blip r:embed="rId2"/>
          <a:stretch/>
        </p:blipFill>
        <p:spPr>
          <a:xfrm>
            <a:off x="4800600" y="3733920"/>
            <a:ext cx="175248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emperate forest"/>
          <p:cNvPicPr/>
          <p:nvPr/>
        </p:nvPicPr>
        <p:blipFill>
          <a:blip r:embed="rId3"/>
          <a:stretch/>
        </p:blipFill>
        <p:spPr>
          <a:xfrm>
            <a:off x="7086600" y="3657600"/>
            <a:ext cx="111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alf of th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the world is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az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s_america-map2"/>
          <p:cNvPicPr/>
          <p:nvPr/>
        </p:nvPicPr>
        <p:blipFill>
          <a:blip r:embed="rId1"/>
          <a:stretch/>
        </p:blipFill>
        <p:spPr>
          <a:xfrm>
            <a:off x="5996160" y="1981080"/>
            <a:ext cx="31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      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Poison Dart 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c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gal07"/>
          <p:cNvPicPr/>
          <p:nvPr/>
        </p:nvPicPr>
        <p:blipFill>
          <a:blip r:embed="rId1"/>
          <a:stretch/>
        </p:blipFill>
        <p:spPr>
          <a:xfrm>
            <a:off x="6553080" y="2514600"/>
            <a:ext cx="2210040" cy="14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KCH%2520Sarawak%2520-%2520Bako%2520National%2520Park%2520-%2520Tropical%2520rainforest2%25201_b"/>
          <p:cNvPicPr/>
          <p:nvPr/>
        </p:nvPicPr>
        <p:blipFill>
          <a:blip r:embed="rId2"/>
          <a:stretch/>
        </p:blipFill>
        <p:spPr>
          <a:xfrm>
            <a:off x="5486400" y="4419720"/>
            <a:ext cx="2362320" cy="154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blue_poison_dart_frog"/>
          <p:cNvPicPr/>
          <p:nvPr/>
        </p:nvPicPr>
        <p:blipFill>
          <a:blip r:embed="rId3"/>
          <a:stretch/>
        </p:blipFill>
        <p:spPr>
          <a:xfrm>
            <a:off x="2438280" y="1600200"/>
            <a:ext cx="2619360" cy="1876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Blue &amp; Gold Macaw"/>
          <p:cNvPicPr/>
          <p:nvPr/>
        </p:nvPicPr>
        <p:blipFill>
          <a:blip r:embed="rId4"/>
          <a:stretch/>
        </p:blipFill>
        <p:spPr>
          <a:xfrm>
            <a:off x="2819520" y="3581280"/>
            <a:ext cx="1419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vanna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area between a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            and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es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5 million sq kilometers                       {1/4 the size of Canad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avanna3_lg"/>
          <p:cNvPicPr/>
          <p:nvPr/>
        </p:nvPicPr>
        <p:blipFill>
          <a:blip r:embed="rId1"/>
          <a:stretch/>
        </p:blipFill>
        <p:spPr>
          <a:xfrm>
            <a:off x="3124080" y="3429000"/>
            <a:ext cx="35528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67341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lpine Mount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133720"/>
            <a:ext cx="7467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a_cont"/>
          <p:cNvPicPr/>
          <p:nvPr/>
        </p:nvPicPr>
        <p:blipFill>
          <a:blip r:embed="rId1"/>
          <a:stretch/>
        </p:blipFill>
        <p:spPr>
          <a:xfrm>
            <a:off x="6477120" y="1371600"/>
            <a:ext cx="225720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0" y="160020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des stretch 4,00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rom the north to the south, thus making it the longest mountain range in the world. In Chile, it rises to over 20,0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9296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aguar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Piranha             Anaco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2-15 years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5-3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00-250 pound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up to 30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Vampire Bat   Galapagos Tortoise     Alp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9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00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24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2 ounces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450 pounds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3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jaguar"/>
          <p:cNvPicPr/>
          <p:nvPr/>
        </p:nvPicPr>
        <p:blipFill>
          <a:blip r:embed="rId1"/>
          <a:stretch/>
        </p:blipFill>
        <p:spPr>
          <a:xfrm>
            <a:off x="533520" y="1371600"/>
            <a:ext cx="1657080" cy="12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IRANHA"/>
          <p:cNvPicPr/>
          <p:nvPr/>
        </p:nvPicPr>
        <p:blipFill>
          <a:blip r:embed="rId2"/>
          <a:stretch/>
        </p:blipFill>
        <p:spPr>
          <a:xfrm>
            <a:off x="2514600" y="13716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naconda"/>
          <p:cNvPicPr/>
          <p:nvPr/>
        </p:nvPicPr>
        <p:blipFill>
          <a:blip r:embed="rId3"/>
          <a:stretch/>
        </p:blipFill>
        <p:spPr>
          <a:xfrm>
            <a:off x="4724280" y="1371600"/>
            <a:ext cx="1876680" cy="124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vampbat"/>
          <p:cNvPicPr/>
          <p:nvPr/>
        </p:nvPicPr>
        <p:blipFill>
          <a:blip r:embed="rId4"/>
          <a:stretch/>
        </p:blipFill>
        <p:spPr>
          <a:xfrm>
            <a:off x="2590920" y="4572000"/>
            <a:ext cx="1600200" cy="108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galapagos"/>
          <p:cNvPicPr/>
          <p:nvPr/>
        </p:nvPicPr>
        <p:blipFill>
          <a:blip r:embed="rId5"/>
          <a:stretch/>
        </p:blipFill>
        <p:spPr>
          <a:xfrm>
            <a:off x="4724280" y="4572000"/>
            <a:ext cx="1905120" cy="124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alpaca"/>
          <p:cNvPicPr/>
          <p:nvPr/>
        </p:nvPicPr>
        <p:blipFill>
          <a:blip r:embed="rId6"/>
          <a:stretch/>
        </p:blipFill>
        <p:spPr>
          <a:xfrm>
            <a:off x="7543800" y="4572000"/>
            <a:ext cx="135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4114800"/>
            <a:ext cx="9144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192560" y="228600"/>
            <a:ext cx="375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In Affiliation with AllPoste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066680"/>
            <a:ext cx="3797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orld image"/>
          <p:cNvPicPr/>
          <p:nvPr/>
        </p:nvPicPr>
        <p:blipFill>
          <a:blip r:embed="rId1"/>
          <a:stretch/>
        </p:blipFill>
        <p:spPr>
          <a:xfrm>
            <a:off x="2362320" y="1523880"/>
            <a:ext cx="64008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7440" y="83772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Unique Feature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lumbia supplies 90%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orld production of Emeralds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riest place on earth is the             Atacama Desert i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nezuela has the highest                     uninterrupted water fall,                       Angel Falls at 3211 f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mer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13716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Salto%2520Angel%252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3809880"/>
            <a:ext cx="17528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’s 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6,879,000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2% of the earth’s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outh_america_pol98"/>
          <p:cNvPicPr/>
          <p:nvPr/>
        </p:nvPicPr>
        <p:blipFill>
          <a:blip r:embed="rId1"/>
          <a:stretch/>
        </p:blipFill>
        <p:spPr>
          <a:xfrm>
            <a:off x="4419720" y="990720"/>
            <a:ext cx="4284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769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Bodies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map"/>
          <p:cNvPicPr/>
          <p:nvPr/>
        </p:nvPicPr>
        <p:blipFill>
          <a:blip r:embed="rId1"/>
          <a:stretch/>
        </p:blipFill>
        <p:spPr>
          <a:xfrm>
            <a:off x="4419720" y="533520"/>
            <a:ext cx="420372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6" descr="amazon-river"/>
          <p:cNvPicPr/>
          <p:nvPr/>
        </p:nvPicPr>
        <p:blipFill>
          <a:blip r:embed="rId1"/>
          <a:stretch/>
        </p:blipFill>
        <p:spPr>
          <a:xfrm>
            <a:off x="2286000" y="457200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amazon-river-map"/>
          <p:cNvPicPr/>
          <p:nvPr/>
        </p:nvPicPr>
        <p:blipFill>
          <a:blip r:embed="rId2"/>
          <a:stretch/>
        </p:blipFill>
        <p:spPr>
          <a:xfrm>
            <a:off x="4724280" y="914400"/>
            <a:ext cx="3791160" cy="3200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9"/>
          <p:cNvSpPr/>
          <p:nvPr/>
        </p:nvSpPr>
        <p:spPr>
          <a:xfrm>
            <a:off x="380880" y="24156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Amaz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2" descr="AmazonRiver1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219320"/>
            <a:ext cx="1726920" cy="2590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799160" y="4572000"/>
            <a:ext cx="42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,3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lows through 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 bridges cros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7000"/>
                </a:solidFill>
                <a:uFillTx/>
                <a:latin typeface="Arial"/>
                <a:hlinkClick r:id="rId5"/>
              </a:rPr>
              <a:t>Satellit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33560" y="53316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south_america_climate"/>
          <p:cNvPicPr/>
          <p:nvPr/>
        </p:nvPicPr>
        <p:blipFill>
          <a:blip r:embed="rId1"/>
          <a:stretch/>
        </p:blipFill>
        <p:spPr>
          <a:xfrm>
            <a:off x="3809880" y="1371600"/>
            <a:ext cx="4386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2840" y="7621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tacama Desert is the worlds’ d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atagonian Deser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argest in Americas/5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tacama-desert"/>
          <p:cNvPicPr/>
          <p:nvPr/>
        </p:nvPicPr>
        <p:blipFill>
          <a:blip r:embed="rId1"/>
          <a:stretch/>
        </p:blipFill>
        <p:spPr>
          <a:xfrm>
            <a:off x="3124080" y="2057400"/>
            <a:ext cx="213372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21"/>
          <p:cNvPicPr/>
          <p:nvPr/>
        </p:nvPicPr>
        <p:blipFill>
          <a:blip r:embed="rId2"/>
          <a:stretch/>
        </p:blipFill>
        <p:spPr>
          <a:xfrm>
            <a:off x="6095880" y="2819520"/>
            <a:ext cx="23623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37:41Z</dcterms:created>
  <dc:creator>Mr. Clutter</dc:creator>
  <dc:description/>
  <dc:language>en-US</dc:language>
  <cp:lastModifiedBy>RomaK</cp:lastModifiedBy>
  <dcterms:modified xsi:type="dcterms:W3CDTF">2015-09-04T09:45:21Z</dcterms:modified>
  <cp:revision>35</cp:revision>
  <dc:subject/>
  <dc:title>South America the continent</dc:title>
</cp:coreProperties>
</file>